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2B2A-7FC0-4CD9-962F-8013A3672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EBD9E-042D-468C-9FD8-0FBC90DE3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6D62-77AE-40D9-A927-2D87EB7D4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E3FE6-A452-4563-9F4A-1F72C1E52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BA31-9B90-422F-A1B0-6E325DA6B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0C3E4-EA2F-44AD-8C67-7714CF9F5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DE20F-0827-4FA1-8A93-B9FD0FFED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0B166-F1E5-4610-BA9A-9AA88549A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6A44E-3DA7-4DFB-A914-C3E5E4145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4A7F3-CCD9-47C8-8898-81D0D5C5C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777B7-D7C3-4447-843E-C23FFD477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3AFD6-E1FB-4352-AA36-48E8E4CD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CCCF9-93FA-4EFE-97EC-697EA3537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7BD7-597F-48DD-9524-50FB280A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74F05-1C68-431F-BE06-22A1C9520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AAE3F-6AA4-4626-9943-2283EC673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00190-3A56-44D3-A90B-1D9FE4DC7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7F928-0290-4602-B552-EDB8AA5CB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61DE-31CE-4281-A308-1E293C81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71EC-6F2D-4738-8A86-1E4EFC02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32649-0EE2-4940-98EA-55BFEB02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F9ED-0761-4895-8CDE-108BE0BA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3270-D260-44B8-9F3F-5AC33F0E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15E5-A6E7-43E6-AE6E-E45DCE52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7599-2352-4882-80DF-EF5939C5C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2199-0FC0-475A-B498-8F9B4B6DA8D6}"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8155-9DB8-4413-94E3-2208D322F62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lara’s House</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is Magwich going to Clara’s hou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oes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chapter 53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Tom</cp:lastModifiedBy>
  <dcterms:modified xsi:type="dcterms:W3CDTF">2009-03-10T23:53:12Z</dcterms:modified>
  <cp:revision>99</cp:revision>
  <dc:subject/>
  <dc:title>Survivor</dc:title>
</cp:coreProperties>
</file>